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84FE0F-675E-4719-8273-4C1B8A379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185B302-3C1E-49F5-8631-8C7D3B3E6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5CA9B1-257F-4654-9BC0-E409CD94A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EB0C194-F458-4D71-A4EF-72648C659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06D62D-6381-4AE0-9FC9-A73C906E1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15F208-5F95-4BC4-B279-4D764A19C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49058B4-47F8-4DF7-B7D1-94BA0525C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E791E5-0BA8-46BB-96A4-1E78F775F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539F58-0525-4EAE-8059-BFB8E405E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796B11-0B0F-45AD-A11E-852B59543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5F1E3E-A51F-44DD-9CEE-CD3009E47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B5BCB2-4576-49E4-AFB0-068C552E6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1ABA28-44CB-4B37-BE88-31224F0AD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FDA3FE-B8C7-430F-98AE-FC4BF238A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D6ED-EA9A-4720-BCA6-F3F5527C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EEC1-0FBF-4DEE-9B22-6B17338A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821A-831D-47B3-8999-F22AE377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9FD9-2B57-4E97-8687-3BF92758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840A-9E08-4447-9C94-BB989D0A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5D02-8E24-4137-B1C8-A7141460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5C27-4661-4735-B29C-3D2066F1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7A88-4C40-4E3A-859B-47CD78FE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FF0D-DA7A-469F-AA63-D15F1E36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F98A-6D7B-4E31-9F8D-EA6D507D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D47C-8C90-4C95-97F0-08234A0E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E591-E310-4085-800A-435FE46B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33CA-CE97-4611-BC4D-F11E5CD77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pdf/financial_assistance/ipa/2009/political/pf.02_civil_society_en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F0D0-527C-4697-B316-7B1D0352C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Increased Involvement by            Banking Associations in Financial Sector Modernization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estern Balkans and Turkey </a:t>
            </a:r>
            <a:br>
              <a:rPr sz="24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"/>
          <p:cNvGrpSpPr/>
          <p:nvPr/>
        </p:nvGrpSpPr>
        <p:grpSpPr>
          <a:xfrm>
            <a:off x="380880" y="609480"/>
            <a:ext cx="2521080" cy="1032120"/>
            <a:chOff x="380880" y="609480"/>
            <a:chExt cx="2521080" cy="1032120"/>
          </a:xfrm>
        </p:grpSpPr>
        <p:sp>
          <p:nvSpPr>
            <p:cNvPr id="52" name="AutoShape 6"/>
            <p:cNvSpPr/>
            <p:nvPr/>
          </p:nvSpPr>
          <p:spPr>
            <a:xfrm>
              <a:off x="380880" y="609480"/>
              <a:ext cx="2521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7" descr=""/>
            <p:cNvPicPr/>
            <p:nvPr/>
          </p:nvPicPr>
          <p:blipFill>
            <a:blip r:embed="rId2"/>
            <a:stretch/>
          </p:blipFill>
          <p:spPr>
            <a:xfrm>
              <a:off x="380880" y="609480"/>
              <a:ext cx="2521080" cy="103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 Box 11"/>
          <p:cNvSpPr/>
          <p:nvPr/>
        </p:nvSpPr>
        <p:spPr>
          <a:xfrm>
            <a:off x="1523880" y="5257800"/>
            <a:ext cx="734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ean Banking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th  Associates Meetin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sels, 3 Dec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igi Passamo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, Convergence Program,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SPI Platform Toolkit: 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ong Commitment to Public-Private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F4ED-A7BA-450F-9D1A-F94BF996D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52280" y="1600200"/>
            <a:ext cx="883944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bust dialogue structure with public institu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s pursued by EU CSF Progra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 participate in deciding the regulatory agen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y contribute to solution-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idence-based pract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nhanc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lps design more market-friendly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high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ork efficienc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nowledge shar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public institutions and other market participa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192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 Civil Society Facility can give EBF Associates generou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-year fund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 hire talent to scale up their influ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legitimacy with members and socie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er integration in regional and EU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 Platform is ideal vehicle to “connect” with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actively promote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filling EU CSF ultimate objective to create a vibrant civil society in future Memb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these importan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opportunities need to be internaliz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EBF Associates Leade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02D4-FC2C-436D-B461-22971B213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Project Funding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FCD4-FF66-4BBF-B1F2-458D868A5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71640" y="5867280"/>
            <a:ext cx="895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EU Grant leverage by SPI Platform in-kind resour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3809880"/>
          </a:xfrm>
          <a:prstGeom prst="rect">
            <a:avLst/>
          </a:prstGeom>
          <a:ln w="0">
            <a:noFill/>
          </a:ln>
        </p:spPr>
      </p:pic>
      <p:sp>
        <p:nvSpPr>
          <p:cNvPr id="138" name="Oval 11"/>
          <p:cNvSpPr/>
          <p:nvPr/>
        </p:nvSpPr>
        <p:spPr>
          <a:xfrm>
            <a:off x="2743200" y="2362320"/>
            <a:ext cx="990720" cy="9144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BF Associate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communicate to EBF desire to app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Civil Society Facility gr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of activities to be financ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” and “Influ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ly, regionally and with EU counter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ergence Program will help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ill EBF SPI Platform toolkit information and valu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o content for a CSF grant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must be completed by 28 February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4719-78C1-4257-A48D-D2FE52C30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7621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uropean Commissio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sh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engthen the role of Banking Associa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As) in the Accession process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participation of BAs in decision-making, policy implementation and moni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cooperation between BAs and other civil society organizations and between BAs and autho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up to €5 million for three yea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ortium of three BAs plus EU counter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% co-pay by benefici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E61A-2A90-46F5-9A3C-EE92DE486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52280" y="655308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enlargement/pdf/financial_assistance/ipa/2009/political/pf.02_civil_society_en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Goal: Stronger BA Influence Through Various Partnershi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EDAF-C7BD-4A27-9896-212DB57EC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380880" y="2209680"/>
            <a:ext cx="274320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4572000" y="44197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6629400" y="14479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6629400" y="36576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4419720" y="22860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4876920" y="3592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29528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4572000" y="3059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5715000" y="3059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51814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31"/>
          <p:cNvCxnSpPr/>
          <p:nvPr/>
        </p:nvCxnSpPr>
        <p:spPr>
          <a:xfrm>
            <a:off x="5105160" y="3276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2" name="Straight Arrow Connector 37"/>
          <p:cNvCxnSpPr/>
          <p:nvPr/>
        </p:nvCxnSpPr>
        <p:spPr>
          <a:xfrm flipV="1">
            <a:off x="4952520" y="274248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Straight Arrow Connector 38"/>
          <p:cNvCxnSpPr>
            <a:endCxn id="69" idx="0"/>
          </p:cNvCxnSpPr>
          <p:nvPr/>
        </p:nvCxnSpPr>
        <p:spPr>
          <a:xfrm>
            <a:off x="5638320" y="2743200"/>
            <a:ext cx="4201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4" name="Straight Arrow Connector 43"/>
          <p:cNvCxnSpPr/>
          <p:nvPr/>
        </p:nvCxnSpPr>
        <p:spPr>
          <a:xfrm flipV="1">
            <a:off x="6552720" y="312336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Straight Arrow Connector 44"/>
          <p:cNvCxnSpPr/>
          <p:nvPr/>
        </p:nvCxnSpPr>
        <p:spPr>
          <a:xfrm>
            <a:off x="6400440" y="3885840"/>
            <a:ext cx="305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6" name="Straight Arrow Connector 45"/>
          <p:cNvCxnSpPr/>
          <p:nvPr/>
        </p:nvCxnSpPr>
        <p:spPr>
          <a:xfrm flipV="1">
            <a:off x="7085160" y="3277800"/>
            <a:ext cx="36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7" name="Straight Arrow Connector 57"/>
          <p:cNvCxnSpPr/>
          <p:nvPr/>
        </p:nvCxnSpPr>
        <p:spPr>
          <a:xfrm>
            <a:off x="3352320" y="327672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58"/>
          <p:cNvCxnSpPr/>
          <p:nvPr/>
        </p:nvCxnSpPr>
        <p:spPr>
          <a:xfrm flipH="1">
            <a:off x="6246000" y="404028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9" name="Straight Arrow Connector 62"/>
          <p:cNvCxnSpPr/>
          <p:nvPr/>
        </p:nvCxnSpPr>
        <p:spPr>
          <a:xfrm>
            <a:off x="3352320" y="3809880"/>
            <a:ext cx="12200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" name="Straight Arrow Connector 63"/>
          <p:cNvCxnSpPr/>
          <p:nvPr/>
        </p:nvCxnSpPr>
        <p:spPr>
          <a:xfrm>
            <a:off x="3123720" y="4419360"/>
            <a:ext cx="1143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1" name="TextBox 66"/>
          <p:cNvSpPr/>
          <p:nvPr/>
        </p:nvSpPr>
        <p:spPr>
          <a:xfrm>
            <a:off x="7010280" y="2514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7"/>
          <p:cNvSpPr/>
          <p:nvPr/>
        </p:nvSpPr>
        <p:spPr>
          <a:xfrm>
            <a:off x="7010280" y="4648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8"/>
          <p:cNvSpPr/>
          <p:nvPr/>
        </p:nvSpPr>
        <p:spPr>
          <a:xfrm>
            <a:off x="4952880" y="5562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1"/>
          <p:cNvSpPr/>
          <p:nvPr/>
        </p:nvSpPr>
        <p:spPr>
          <a:xfrm>
            <a:off x="2286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Viktorija’s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lowchart: Connector 27"/>
          <p:cNvSpPr/>
          <p:nvPr/>
        </p:nvSpPr>
        <p:spPr>
          <a:xfrm>
            <a:off x="6553080" y="34290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480348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9"/>
          <p:cNvSpPr/>
          <p:nvPr/>
        </p:nvSpPr>
        <p:spPr>
          <a:xfrm>
            <a:off x="66322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0"/>
          <p:cNvSpPr/>
          <p:nvPr/>
        </p:nvSpPr>
        <p:spPr>
          <a:xfrm>
            <a:off x="366048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lowchart: Connector 32"/>
          <p:cNvSpPr/>
          <p:nvPr/>
        </p:nvSpPr>
        <p:spPr>
          <a:xfrm>
            <a:off x="4724280" y="243828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lowchart: Connector 33"/>
          <p:cNvSpPr/>
          <p:nvPr/>
        </p:nvSpPr>
        <p:spPr>
          <a:xfrm>
            <a:off x="3581280" y="36576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 Will Help Involv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G Enlargement will invite authorities to participate in evaluation of propos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expects authorities to be closely involved in the project as an associated partner, the main counterpart or particip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ill inform authorities about the overall implementation of the proje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1D80-ACFD-4472-A9CA-D58ED7845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Activities Financ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7EFA-988E-45D6-9091-3ECAAD1B0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62120" y="4495680"/>
            <a:ext cx="1600200" cy="152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743200" y="4191120"/>
            <a:ext cx="16002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572000" y="3048120"/>
            <a:ext cx="1600200" cy="297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629400" y="2438280"/>
            <a:ext cx="1600200" cy="358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762120" y="472428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s and seminars on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2666880" y="426708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training to BA staff on economic impact of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4495680" y="3352680"/>
            <a:ext cx="1752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ship activities between BAs, think-tanks, other associations to influenc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6553080" y="2666880"/>
            <a:ext cx="175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lishment of Platforms to formulate concrete recommenda-tions and practical solutions,    and exchange of goo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838080" y="1143000"/>
            <a:ext cx="3353040" cy="106668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4876920" y="1143000"/>
            <a:ext cx="3352680" cy="10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1460160" y="137160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5799960" y="137160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sures of Success 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ithin 2 years after project 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nsultations by public authorities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measures taken to adopt and implement EU a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qu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ibutio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new join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itiatives/network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mmon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on papers on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actions (workshops, trainings, campaigns, manual/guides, etc)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public authorities regarding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37D0-DBA5-46F2-8464-E3C5C7CB0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Grant: A Game-Changer for EBF Associa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22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resourc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operate with public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form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substant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cooper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ursue similar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eive high-quality assistan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EU partner institu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7CF4-0CB9-40DA-BD85-AEB06E0B0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serv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BF Associat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tool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pport EBF Associat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enhancing their contribution to financial sector modernization through structured dialogue with other private and public partner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uide on ac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documents for implementing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vernance framework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operate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on World Bank’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vergence Program experi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lbania and Roman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AD48-D877-455C-A63F-4FC93712D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6629400" y="6172200"/>
            <a:ext cx="1600200" cy="538200"/>
            <a:chOff x="6629400" y="6172200"/>
            <a:chExt cx="1600200" cy="538200"/>
          </a:xfrm>
        </p:grpSpPr>
        <p:sp>
          <p:nvSpPr>
            <p:cNvPr id="117" name="AutoShape 6"/>
            <p:cNvSpPr/>
            <p:nvPr/>
          </p:nvSpPr>
          <p:spPr>
            <a:xfrm>
              <a:off x="6629400" y="6172200"/>
              <a:ext cx="16002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7" descr=""/>
            <p:cNvPicPr/>
            <p:nvPr/>
          </p:nvPicPr>
          <p:blipFill>
            <a:blip r:embed="rId1"/>
            <a:stretch/>
          </p:blipFill>
          <p:spPr>
            <a:xfrm>
              <a:off x="6629400" y="6172200"/>
              <a:ext cx="1600200" cy="53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563040"/>
            <a:ext cx="899172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SPI Platform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promo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fund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opera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FD70-D6FB-4D68-A5EC-6F652565D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8380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5"/>
          <p:cNvGrpSpPr/>
          <p:nvPr/>
        </p:nvGrpSpPr>
        <p:grpSpPr>
          <a:xfrm>
            <a:off x="6629400" y="5943600"/>
            <a:ext cx="1600200" cy="609480"/>
            <a:chOff x="6629400" y="5943600"/>
            <a:chExt cx="1600200" cy="609480"/>
          </a:xfrm>
        </p:grpSpPr>
        <p:sp>
          <p:nvSpPr>
            <p:cNvPr id="126" name="AutoShape 6"/>
            <p:cNvSpPr/>
            <p:nvPr/>
          </p:nvSpPr>
          <p:spPr>
            <a:xfrm>
              <a:off x="6629400" y="5943600"/>
              <a:ext cx="1600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7" descr=""/>
            <p:cNvPicPr/>
            <p:nvPr/>
          </p:nvPicPr>
          <p:blipFill>
            <a:blip r:embed="rId2"/>
            <a:stretch/>
          </p:blipFill>
          <p:spPr>
            <a:xfrm>
              <a:off x="6629400" y="5943600"/>
              <a:ext cx="1600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$M</dc:creator>
  <dc:description/>
  <dc:language>en-US</dc:language>
  <cp:lastModifiedBy>Viktorija Proskurovska</cp:lastModifiedBy>
  <dcterms:modified xsi:type="dcterms:W3CDTF">2009-12-07T09:12:38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